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2E3-80E4-4EFD-B704-2B0A1613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3F5-4BB8-4993-BF92-22EEE11C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B8C-6384-4E28-AA35-5B7DDF58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3FA-D47E-4047-A25C-AE46E22F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EF8E-188F-48E7-8D0E-A56F9E1D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C38-52F4-4397-B010-8C33D773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0743-76E7-4800-BF93-5961D58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02FC-A9CA-4AF1-AF32-6B98488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851F-EAC3-45AB-A06C-1DFF7DD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0BC-AB92-4561-A4F0-4CC2D41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E621-797F-4994-9A43-0962106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A48-2ACB-47C2-94AB-5F52018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82B7-BBE4-4E88-B519-16E6060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E9BD-BC8A-4383-8CB7-3073221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AED3-D81B-4CBF-906B-157958A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6845-58C5-4980-B4F3-1A924FF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D1D-F46F-472D-BB6F-84F63AC1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C24-346E-4845-BA69-FE5A0E6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96C-9320-4166-8F07-53090BB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21B-C3D3-4F22-821F-4B3D5897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47C-ACCB-4BE5-A3AD-333155C1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04B-92E8-4C1E-BC75-61C5AA0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CE8-B649-42C0-98D9-6D05AD3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682-33BE-4A82-8CED-F3CBB28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142-F51E-4033-85DE-720B618742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5D9-C6B8-43DF-9D77-7CD13633FD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English-Sept. 1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eshm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Cl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 with part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Fortun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other party go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story follow Poe’s example. (At least one p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you didn’t deserve what happened to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ne/M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Tone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author’s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ttitude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Mood 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climate of 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feeling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av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word choice (ton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Once upon a midnight dre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3 things you think of when you hear the wor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ea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your own story with the 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ce upon a midnight drear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ke Poe, focus on creating creepy imag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</cp:lastModifiedBy>
  <dcterms:modified xsi:type="dcterms:W3CDTF">2011-09-15T06:20:48Z</dcterms:modified>
  <cp:revision>5</cp:revision>
  <dc:subject/>
  <dc:title>English Exciting Day 4</dc:title>
</cp:coreProperties>
</file>